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A72-80A6-4349-96DC-2DA383D9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36B-3BD6-4E28-A13A-2271476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0AA-F232-4B79-832C-56BE1292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444-98FE-4FD6-AAA6-0EB199E9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DED-67F2-4177-8EDA-5525B10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019C-BA53-40F7-A1A9-A664E18E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8EB-9E70-4E06-9790-F66DE79F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E80-E897-4D84-9A2E-AF62921C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1AA-794D-48DE-91B2-E23E687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FA7-8FAC-4449-A38F-DBD0099F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62F-7AE2-4E8F-9EC1-2F42CC0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DF9-38EB-4A91-9244-0471955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E6F8-6D28-439A-9AF5-412FBA8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7D6F-1A5F-448D-B14A-88BBEBB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F08-A6F1-4197-9B93-8214313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0E1-F8DA-45C8-B18A-06B5DA80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078-664A-4A71-80DF-50B181E0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0E2F-2C3F-41F2-85AC-2EDD193D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D7D2-19C0-4A77-B306-0BAEB67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0F4A-31C3-4CDC-8FC4-976AC9CE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6600-BE54-405C-BB01-F133136D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4AE5-D6E5-4D72-AD9D-22BDAAF9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E74-801C-446D-B8CF-8ECED9CA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07468-452B-4814-B396-16A93F8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1EA2F-FE95-430D-A4B3-15BF8A86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92C2-3F9D-457E-9B7C-9521B6A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A3AF-1845-4981-918D-E5C618CD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E989-134D-4D2C-843B-E4AB5A7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7FB9-F9AD-499F-A494-0BDF7A7D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3E9B-6E38-40E4-92B0-C8A1D127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CEF0-F126-4445-A617-B55774D8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23FA-012A-4653-8899-109CB50C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2573-E740-453E-A1CC-20FD22C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D8-F19D-4E64-8C4F-F3459E1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B76D-1538-4109-8B16-5E67601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1CAA-5B90-4F3B-B3F4-58DC6864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D155A-33B5-4878-BECD-A0660F07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648B-8D18-4EA3-9991-2075243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4196-9E46-42BF-B0CC-1F804F6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F81A-C911-42D4-BAD9-6C386A8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2D0D-6A15-4201-A062-D0A3E25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0F5F7-2286-4163-B5C5-596D30B2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4F51-D6F4-4E8D-83DE-331A8A28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9B0B-EF41-47D7-B2EC-8544EBD0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366-4054-43B2-8C22-D73489F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00966-391F-4A50-ADBE-9EA9F0D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D0CF4-024B-4ECE-A8EE-D20FB601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2DD5C-78CA-47D9-B8CF-BB18603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EB11-02F4-45D3-BBEC-D6BEF4E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9822-3A25-4E14-B27C-5A282673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C871C-460D-428E-9338-251EC2D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BEB2-B4FB-4663-AC2F-634E3F9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E2AB-8393-4084-9C8C-E0061214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FD7D-0739-4BE9-B21E-9C59012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C76B4-C700-44FB-B591-9A6CC4FE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03A-A85B-496F-8B92-88F2543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18AD-8FAC-4459-8EC6-40ACE2A7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0A8-2707-4C60-A648-9F7D91D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472-F801-420E-857D-DEC66E4C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CA4-4E87-4E0D-A1E8-A6C80EDC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F709-EB61-499C-8845-A04BB746EDF4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rostokąt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rostokąt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01D4-4A78-4BF1-9947-5FAAF55ECDB7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rostokąt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rostokąt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8D7-77BC-4119-B838-B804A3C83C3C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74A-A21B-4833-87E7-4E26ABA8ED99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2A89-ACFE-4F19-BE08-CF46459D7B41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Franklin Gothic Book"/>
              </a:rPr>
              <a:t>Historia papieru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C:\Users\Krzysztof\AppData\Local\Microsoft\Windows\Temporary Internet Files\Content.IE5\C9O4IJX0\MC900288976[2].wmf"/>
          <p:cNvPicPr/>
          <p:nvPr/>
        </p:nvPicPr>
        <p:blipFill>
          <a:blip r:embed="rId1"/>
          <a:stretch/>
        </p:blipFill>
        <p:spPr>
          <a:xfrm>
            <a:off x="2556000" y="3429000"/>
            <a:ext cx="4471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d wynalezieniem papieru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196640"/>
            <a:ext cx="74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łównym powodem, dla którego zaczęto szukać materiałów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 których można było pisać, była potrzeba zapisywania przez ludzkość znaków i obrazów, często mających znaczenie magiczn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ymi znakami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alowidła naskal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rzed ok. 13 tys. lat p.n.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erwotne obrazki najstarszego pisma chińskiego przekształciły się przez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pisywanie pędzelkiem na tkaninac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lub materiałach z łyka w chińskie znaki pisarsk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obrazk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zopotamii zmieniło się w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klin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wstające przez odciskanie symboli w mokrej glinie - było ono znane we wszystkich kulturach starożytnego Wschodu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iegarbowane skóry zwierzęce z owiec, kóz i osłów potraktowane wapnem były w średniowieczu najważniejszym nośnikiem pisma w europejskim kręgu kulturowym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róbka łatwo dostępnych włókien roślinnych na materiał do pisania w formie arkuszy doprowadziła do powstania pierwszych poprzedników papieru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2" descr="C:\Users\Krzysztof\AppData\Local\Microsoft\Windows\Temporary Internet Files\Content.IE5\1F4AEUNC\MC900078753[1].wmf"/>
          <p:cNvPicPr/>
          <p:nvPr/>
        </p:nvPicPr>
        <p:blipFill>
          <a:blip r:embed="rId1"/>
          <a:stretch/>
        </p:blipFill>
        <p:spPr>
          <a:xfrm flipH="1">
            <a:off x="7236000" y="260280"/>
            <a:ext cx="1535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ierwsze technologie papiernicz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6000" y="126828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ważniejsza różnica między poprzednikami papieru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 prawdziwym papierem polega na procesie produkcyjny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raz użytych materiałach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erwszy papier przygotowywano w następujący sposób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z ubijanie i gotowanie odpowiednio przygotowanych włókien, najczęściej z różnych roślin przygotowuje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dodatkiem wody rzadką zawiesinę z włókien (tzw. zarobę), która jest następnie wybierana sitem. Osadzające się na sicie włókna tworzą arkusz papieru, który po wyschnięciu jest gotowy do użyci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osób ten wynaleziono na Dalekim Wschodz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Jeszcze dziś robi się ten najstarszy i najprymitywniejszy rodzaj papieru w Nepalu, Bhutanie i innych krajach himalajskich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lany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czerpany.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C:\Users\Krzysztof\AppData\Local\Microsoft\Windows\Temporary Internet Files\Content.IE5\1JWH5UXW\MC900078625[1].wmf"/>
          <p:cNvPicPr/>
          <p:nvPr/>
        </p:nvPicPr>
        <p:blipFill>
          <a:blip r:embed="rId1"/>
          <a:stretch/>
        </p:blipFill>
        <p:spPr>
          <a:xfrm>
            <a:off x="179280" y="1197000"/>
            <a:ext cx="1114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chińsk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3640" y="1447920"/>
            <a:ext cx="77770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lebką papieru jest Daleki Wschód, Chiny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m już od dawna używano jedwabiu do pisania, był on jednak bardzo drogi. I dopiero odkryto , że włókna konopne - wtedy tani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i łatwy do uzyskania materiał na odzież - przygotowane wedle tej samej metody dają dobry papier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Z roku 105 n.e. pochodzi pierwsza pisemna wzmianka o sztuce robienia papieru. Chiński minister Cai (Ts'ai) Lun opisał sposób produkcji papieru: z włókien łyka morwy, odpadów konopi, starych sieci rybackich i szmat przez ubijanie z dodatkiem wody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w kamiennym moździerzu robiono papkę, rozcieńczano a następnie czerpano sitem, prasowano, suszono na słońcu i w końcu wygładzano kamieniem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 ulepszona technika pozwalała na produkcję bardz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elikatnego papieru, który zaliczał się do najlepszych. 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oczątkowo mocno strzeżona sztuka wytwarzania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apieru rozszerzała się z Chin przez Koreę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o Japonii, gdzie się dalej rozwijała. 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C:\Users\Krzysztof\AppData\Local\Microsoft\Windows\Temporary Internet Files\Content.IE5\1F4AEUNC\MC900405724[1].wmf"/>
          <p:cNvPicPr/>
          <p:nvPr/>
        </p:nvPicPr>
        <p:blipFill>
          <a:blip r:embed="rId1"/>
          <a:stretch/>
        </p:blipFill>
        <p:spPr>
          <a:xfrm>
            <a:off x="5796000" y="260280"/>
            <a:ext cx="1246320" cy="1085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Krzysztof\AppData\Local\Microsoft\Windows\Temporary Internet Files\Content.IE5\C9O4IJX0\MC900404475[1].wmf"/>
          <p:cNvPicPr/>
          <p:nvPr/>
        </p:nvPicPr>
        <p:blipFill>
          <a:blip r:embed="rId2"/>
          <a:stretch/>
        </p:blipFill>
        <p:spPr>
          <a:xfrm>
            <a:off x="6750000" y="4221000"/>
            <a:ext cx="23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 Japon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268280"/>
            <a:ext cx="7489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dy popyt na papier rósł, papiernicy japońsc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szukali nowych surowców i odkryli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rośliny miejscowe z rodziny wawrzynkowatych. Włókna 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są miękkie i z natury lepkie. By je użyć do produkcji papieru trzeba było wymyślić inną technikę, ale produkt końcowy był piękny i trwały. W ten sposób powstał z podrobionego chińskiego papieru samodzielny japoński produkt -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ash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- papier japoński. To określenie jest używane dziś do wszystkich rodzajów ręcznie czerpanego papieru japońskiego, niekiedy również dla szczególnych rodzajów papieru produkowanego maszynowo. 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Obok użycia na księgi religijne i oficjalne dokumenty, papier służył wtedy również do prywatn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orespondencji i poezji, i przyczyniał się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ym samym do rozwoju literatury.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Rozkwitała własna japońska kultura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olna od panujących dotąd wpływów chińskich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C:\Users\Krzysztof\AppData\Local\Microsoft\Windows\Temporary Internet Files\Content.IE5\1F4AEUNC\MC900405832[1].wmf"/>
          <p:cNvPicPr/>
          <p:nvPr/>
        </p:nvPicPr>
        <p:blipFill>
          <a:blip r:embed="rId1"/>
          <a:stretch/>
        </p:blipFill>
        <p:spPr>
          <a:xfrm>
            <a:off x="6804000" y="189000"/>
            <a:ext cx="1757520" cy="17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Krzysztof\AppData\Local\Microsoft\Windows\Temporary Internet Files\Content.IE5\1F4AEUNC\MC900200297[1].wmf"/>
          <p:cNvPicPr/>
          <p:nvPr/>
        </p:nvPicPr>
        <p:blipFill>
          <a:blip r:embed="rId2"/>
          <a:stretch/>
        </p:blipFill>
        <p:spPr>
          <a:xfrm>
            <a:off x="6300720" y="4941720"/>
            <a:ext cx="284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pier na Zachodzi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98100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lka wieków przed wyprodukowani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w miejscowych papierniach papier był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w Europie osiągalny tylko jako drogi arabsk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towar z importu. Wtedy Europejczycy używali    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ważnie pergaminu, ale już wkrótce papier stał się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towarem wytwarzanym na miejscu i zastąpił drogie materiały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Europejska produkcja papieru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- a tym samym trzecia epoka wytwarzania papieru - wzięła swój początek w Hiszpanii. Przez Włochy, południową Francję rozszerzało się nowe rzemiosło powoli na całą Europę. Papier znalazł miejsc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biurach, kancelariach klasztorów i mias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trakcie rozwoju nowych technik druku papier zyskał na znaczeniu przy upowszechnianiu książek i czasopism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bo mogły być one wydawane teraz w większych ilościach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Różnorodność papierów dała się zauważyć w XVII i XVIII wieku w Anglii, gdy coraz więcej papierni zaczęło produkować najróżnorodniejsze rodzaje papieru, kartonu i lakierowane produkty np. karty do gry ze sklejonych razem warstw papieru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Users\Krzysztof\AppData\Local\Microsoft\Windows\Temporary Internet Files\Content.IE5\1F4AEUNC\MC900326946[1].wmf"/>
          <p:cNvPicPr/>
          <p:nvPr/>
        </p:nvPicPr>
        <p:blipFill>
          <a:blip r:embed="rId1"/>
          <a:stretch/>
        </p:blipFill>
        <p:spPr>
          <a:xfrm>
            <a:off x="7020000" y="189000"/>
            <a:ext cx="1660320" cy="157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Krzysztof\AppData\Local\Microsoft\Windows\Temporary Internet Files\Content.IE5\CTDX1DGY\MC900281200[1].wmf"/>
          <p:cNvPicPr/>
          <p:nvPr/>
        </p:nvPicPr>
        <p:blipFill>
          <a:blip r:embed="rId2"/>
          <a:stretch/>
        </p:blipFill>
        <p:spPr>
          <a:xfrm>
            <a:off x="108000" y="620640"/>
            <a:ext cx="1477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spółcześ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447560"/>
            <a:ext cx="68407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 tym jak w pierwszej połowie XIX w. zmechanizowano wszystkie dotąd ręcznie wykonywane prace, w drugiej połowie tego wieku rozwinęła się przemysłowa produkcja surowców w oddzielnych celulozowniach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Tym samym rozdzielono wytwarzanie surowców od produkcji papieru. Napęd elektryczny zastąpił parowy i wodny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Maszyny papiernicze, ich prędkości robocze a tym samym też zdolności produkcyjne są coraz większe. Ale rozwój nie ogranicza się tylko do względów ilościowych, lecz również jakościowych. Wymagania stawiane papierowi rosną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równując dzisiejszy papier ze swymi poprzednikami widzimy ogromny wzrost jakości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C:\Users\Krzysztof\AppData\Local\Microsoft\Windows\Temporary Internet Files\Content.IE5\1JWH5UXW\MC900382576[1].jpg"/>
          <p:cNvPicPr/>
          <p:nvPr/>
        </p:nvPicPr>
        <p:blipFill>
          <a:blip r:embed="rId1"/>
          <a:stretch/>
        </p:blipFill>
        <p:spPr>
          <a:xfrm>
            <a:off x="7020000" y="3860640"/>
            <a:ext cx="1873080" cy="187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Krzysztof\AppData\Local\Microsoft\Windows\Temporary Internet Files\Content.IE5\C9O4IJX0\MC900332614[1].wmf"/>
          <p:cNvPicPr/>
          <p:nvPr/>
        </p:nvPicPr>
        <p:blipFill>
          <a:blip r:embed="rId2"/>
          <a:stretch/>
        </p:blipFill>
        <p:spPr>
          <a:xfrm>
            <a:off x="6789600" y="836640"/>
            <a:ext cx="1959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odsumowa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447560"/>
            <a:ext cx="71866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ozwój produkcji papieru od swych początków do dnia dzisiejszego jest odbiciem wynalazczości ludzkości na drodze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d papirusu do papieru XXI w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ównież w czasach nowych mediów elektronicznych, papier nie stracił na znaczeniu - wprost przeciwnie! Wymagania co do ilości i jakości będą jeszcze przez długi czas rosnąć.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2" descr="C:\Users\Marzena\AppData\Local\Microsoft\Windows\Temporary Internet Files\Content.IE5\BBL10B36\MC900196298[1].wmf"/>
          <p:cNvPicPr/>
          <p:nvPr/>
        </p:nvPicPr>
        <p:blipFill>
          <a:blip r:embed="rId1"/>
          <a:stretch/>
        </p:blipFill>
        <p:spPr>
          <a:xfrm>
            <a:off x="6875640" y="549360"/>
            <a:ext cx="165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2:23:28Z</dcterms:created>
  <dc:creator>Krzysztof</dc:creator>
  <dc:description/>
  <dc:language>en-US</dc:language>
  <cp:lastModifiedBy>Marzena</cp:lastModifiedBy>
  <dcterms:modified xsi:type="dcterms:W3CDTF">2013-08-07T16:53:47Z</dcterms:modified>
  <cp:revision>4</cp:revision>
  <dc:subject/>
  <dc:title>Historia papieru</dc:title>
</cp:coreProperties>
</file>